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3.jpeg" ContentType="image/jpe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AE6-E576-4D7A-897F-8039C6C7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848-38FC-494F-81D5-6A2C9EA7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4C3-DE1C-42CC-86CE-530920FF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8BB-EC43-4445-B2F1-37A6BEA6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D192-B0DE-4789-B9DD-A8DA03D4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7632-1A29-4C6E-8B8C-68C9EC2F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236E-BCFD-46A6-9B39-6FFC2A3F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E1E6-184D-4BD9-8F67-5D904C1E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C777-4A63-40C7-A05B-8A14DB63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B96B-DA73-433F-B14E-0CA33075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A61F-8DE9-4E04-B90F-94C1CCAB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B6F-BEDF-477D-B86C-D45D675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23F8-3012-45EC-B6B2-07EFDCE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3C4C-3E88-4D54-9B71-18539C3E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F8A4-4D92-42AF-8138-1D780ED4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9517-3934-40AE-803D-B949B072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0EF1-F66D-4E51-BA81-870BB06A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046-2660-48E9-B78B-4992E18E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D38-A773-48C8-BB8D-4B969C7D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A9F-1250-435C-BA90-ADD42D8E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B35-BD9F-4941-A7DD-3F2468B6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903-C4F9-4460-A7C0-C2FD42E7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09E-0D57-46BA-8FA6-005F4CDB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0C4-ADDD-4153-BE53-B93F5403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3F9C-9A8A-4F84-A4BA-BF77E5A3A8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69FB-F458-4981-9145-04A2376E0F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%20want.MPG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68580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Unit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86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LON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NTARC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5029200"/>
            <a:ext cx="194796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2680" y="4495680"/>
            <a:ext cx="914400" cy="9144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4495680"/>
            <a:ext cx="1067040" cy="91440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-131760"/>
            <a:ext cx="8381880" cy="70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canning:True or False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(    )The author made her Antarctica expedition in December,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(    ) The weather in Antarctica was changeable, which added difficulty to he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(    ) She fell into a deep hole and fell down onto the bottom, a few hundred f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(    ) Climbing along the ropes to the sled, she quickly returned to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(    ) Although she was hurt, she still decided to continue her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685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86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0400" y="822240"/>
            <a:ext cx="14479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 November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038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ut luckily she hung on the ropes which were tied to the s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56386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t took her a long time to climb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6338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657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257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64008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6329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Find out some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520"/>
            <a:ext cx="7696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5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hird 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we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day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morn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l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33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veled alone at the North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143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gan her jour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2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uggled through stormy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438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yed in her 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048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lebrated her 6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birth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36576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ell into a hole and climbed  out fi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9528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d a bad accident with the sled and hurt her 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6324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ave up and went back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9072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rther reading: answer the follow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3352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How did Helen Thayer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How did she celebrate her 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walked ,skied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led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286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aw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ed a frozen cake with a candle,sa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the top of her voice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3341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/>
          </p:cNvPr>
          <p:cNvSpPr/>
          <p:nvPr/>
        </p:nvSpPr>
        <p:spPr>
          <a:xfrm>
            <a:off x="1523880" y="342900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5257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y self-rescuing. Thanks to all the training she had had. She was in good health and her equipment worked well.She had strong w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733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     How did she struggle out of the h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id she succ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129528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struggled to her knees and tried every means to put the tent up and dragged her sleeping bag into the tent and lay down out of the cold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28600"/>
            <a:ext cx="7878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How did she prevent herself from being frozen to death after the accid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124080"/>
            <a:ext cx="8153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Some people think Thayer’s trip was a failure. Do you think so ? When she made the final decision , which things did she take into conside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Do you think she went t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nly to celebrate 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were her real purpo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66680" y="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ll in the blan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91440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wanted to _______  my birthday in a special way. After making the necessary__________, I started the journey of _______ on Nov.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,1997. The weather in Antarctica was ________. Sometimes the wind was too_______ for us to pace any inch;sometimes terrible snow storms came _______  and I had to use my tent as  a _______. Besides, I once fell into a hole and fortunately _____  myself out. The worst was that I had a bad_______ with the sled, which forced me to _____ up my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838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eleb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676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209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809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dde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sc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5486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9436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0"/>
            <a:ext cx="23623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1009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What kind of woman is Helen Thayer?    What can you learn from 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077320" y="518148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21337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ve, strong, responsible, confident, optimistic, strong will, never give up, give in to difficulty, like challeng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3429000"/>
            <a:ext cx="3429000" cy="15238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886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10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roup work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 an interview to Helen Thayer. One acts as Helen Thayer. The other three act as  reporters or journa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76520" y="41911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00600"/>
            <a:ext cx="8076960" cy="174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 WOR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down some sentences to describe Helen Th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5257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Helen Th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179280"/>
            <a:ext cx="426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She is a cross country ski racer and climber. She walked and skied alone to the North Pole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88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t the age of 50 and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2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she returned to the North Pole again.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5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she wrote a book about her journey to the pole named </a:t>
            </a:r>
            <a:r>
              <a:rPr b="1" i="1" lang="en-US" sz="2800" spc="-1" strike="noStrike">
                <a:solidFill>
                  <a:srgbClr val="6600cc"/>
                </a:solidFill>
                <a:latin typeface="Comic Sans MS"/>
              </a:rPr>
              <a:t>POLAR DREAM.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7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Helen spent her 60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birthday traveling alone in 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Antar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362320" y="762120"/>
          <a:ext cx="56386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762120"/>
                    <a:ext cx="5638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638680"/>
            <a:ext cx="63244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ntarctic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the Sou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62120"/>
            <a:ext cx="5715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ctic( the Nor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42670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ngu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olar  b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7621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on the   North Po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10552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in Antarct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791320"/>
            <a:ext cx="8839080" cy="1068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cy wind ,sunshine 24h 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rm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90 degrees below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em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120" y="4572000"/>
            <a:ext cx="6112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213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867280"/>
            <a:ext cx="89154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little human activities because of the extreme cl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6019920"/>
            <a:ext cx="7391160" cy="579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2120" y="6019920"/>
            <a:ext cx="7924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nger is jus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round the co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940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Skimming (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lone in Antarctica</a:t>
            </a: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990720"/>
            <a:ext cx="7696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ain idea of this t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What dangers did she meet with while travelling in Antarc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5238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len traveled alone in Antarct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ccessfully overcame the difficulty s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80060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o strong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lling into a h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 bad accident with the sled and hurt her leg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7:28:57Z</dcterms:created>
  <dc:creator>njsz_personal</dc:creator>
  <dc:description/>
  <dc:language>en-US</dc:language>
  <cp:lastModifiedBy>zy</cp:lastModifiedBy>
  <dcterms:modified xsi:type="dcterms:W3CDTF">2005-03-27T13:00:39Z</dcterms:modified>
  <cp:revision>13</cp:revision>
  <dc:subject/>
  <dc:title>PowerPoint 演示文稿</dc:title>
</cp:coreProperties>
</file>